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057-0972-419B-9F88-4E9A8E12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3CA2-B075-42A0-ACBD-B8F80D3A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64C6-22B5-41F2-8465-AB1E4543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97CF-A5D8-458E-B7CC-CB99B25D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2446-EBB6-4A79-8D46-AE1311DB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35B7-2D65-4044-85AC-5CFAD497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96F3-2D8C-412D-98E8-FBDE7523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F534-5073-418B-93DE-A16E78FA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A1F5-87A1-4400-856E-657CA25D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BB8B-38F8-4D4F-9FED-FA608C1E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A643-E815-4E5B-989E-4101C92B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AE2F-2476-4DEF-8B38-DBF97759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3BFE-1A7D-49D4-935F-55C4378E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8219-F3DE-47FA-AB8F-61C18904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6B4F-7195-4F3A-9F60-39099AA2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C043-1458-45DD-B3AE-8D395A73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45AF-E895-475E-83A0-FBC93C4F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14A7-799F-486C-8FFD-37D30429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5D9-0423-4EDB-9BC3-4EC0C5CD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5438-A496-4011-885C-0335B0AF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ED4E-EFBF-4E46-A8E3-81B8AB85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9E2-EFF2-470A-BFAB-33FBB04A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6994-4D4B-4F57-9CDC-61037466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358C-B4FA-4EE3-BB16-911FE618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601E-F4E4-4ED1-8139-AA41BB56D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8397-DE44-441A-A85B-3E290FDBD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udentpublishing.com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ruthspiro@sbcglobal.net" TargetMode="External"/><Relationship Id="rId2" Type="http://schemas.openxmlformats.org/officeDocument/2006/relationships/hyperlink" Target="http://www.studentpublishing.com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udentpublishing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739152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merican Typewriter"/>
              </a:rPr>
              <a:t>                      </a:t>
            </a:r>
            <a:r>
              <a:rPr b="0" lang="en-US" sz="4400" spc="-1" strike="noStrike">
                <a:solidFill>
                  <a:srgbClr val="ff0000"/>
                </a:solidFill>
                <a:latin typeface="American Typewriter"/>
              </a:rPr>
              <a:t>Avoca West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merican Typewriter"/>
              </a:rPr>
              <a:t>      5th Grade Student Publishing Project!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828440" y="38095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February-March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Encore L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Mrs. Geid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#1 task Definition</a:t>
            </a:r>
            <a:br>
              <a:rPr sz="4400"/>
            </a:br>
            <a:r>
              <a:rPr b="0" lang="en-US" sz="2400" spc="-1" strike="noStrike">
                <a:solidFill>
                  <a:srgbClr val="ff0000"/>
                </a:solidFill>
                <a:latin typeface="American Typewriter"/>
              </a:rPr>
              <a:t>What’s the task?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merican Typewriter"/>
              </a:rPr>
              <a:t>What types of information do I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Your task is to write and illustrat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   </a:t>
            </a: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16 page storybook online that will be published as a hardcover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You will need to know how to gather and process ideas, how to incorporate the “ingredients” of a good story, h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   </a:t>
            </a: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to edit, and how to use the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American Typewriter"/>
                <a:hlinkClick r:id="rId1"/>
              </a:rPr>
              <a:t>www.studentpublishing.com</a:t>
            </a: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  web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#2 Information Seeking Strategies</a:t>
            </a:r>
            <a:br>
              <a:rPr sz="4400"/>
            </a:br>
            <a:r>
              <a:rPr b="0" lang="en-US" sz="2800" spc="-1" strike="noStrike">
                <a:solidFill>
                  <a:srgbClr val="ff0000"/>
                </a:solidFill>
                <a:latin typeface="American Typewriter"/>
              </a:rPr>
              <a:t>What are possible sources?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merican Typewriter"/>
              </a:rPr>
              <a:t>Which are the b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Talk to friends, parents, &amp; other people who have shared experiences and adventures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Dream big!  Let your imagination run wi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Observe events, people and places in your life.</a:t>
            </a: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08320" y="5402160"/>
            <a:ext cx="614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27080" y="5021280"/>
            <a:ext cx="500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4724280"/>
            <a:ext cx="73152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Reflect on your memori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Refer to Ruth Spiro’s recipe for a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#3 Location and Access</a:t>
            </a:r>
            <a:br>
              <a:rPr sz="4400"/>
            </a:br>
            <a:r>
              <a:rPr b="0" lang="en-US" sz="2800" spc="-1" strike="noStrike">
                <a:solidFill>
                  <a:srgbClr val="ff0000"/>
                </a:solidFill>
                <a:latin typeface="American Typewriter"/>
              </a:rPr>
              <a:t>Where is each source?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merican Typewriter"/>
              </a:rPr>
              <a:t>Where is the information in each sour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Ideas are all around you and inside of you!  LOOK!  LISTEN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Ruth Spiro’s “recipe” should be written in your writer’s journal.  If not, you can email her at: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American Typewriter"/>
                <a:hlinkClick r:id="rId1"/>
              </a:rPr>
              <a:t>ruthspiro@sbcglobal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American Typewriter"/>
                <a:hlinkClick r:id="rId2"/>
              </a:rPr>
              <a:t>www.studentpublishing.com</a:t>
            </a: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#4 Use of Information</a:t>
            </a:r>
            <a:br>
              <a:rPr sz="4400"/>
            </a:br>
            <a:r>
              <a:rPr b="0" lang="en-US" sz="2800" spc="-1" strike="noStrike">
                <a:solidFill>
                  <a:srgbClr val="ff0000"/>
                </a:solidFill>
                <a:latin typeface="American Typewriter"/>
              </a:rPr>
              <a:t>How can I best use each source? 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merican Typewriter"/>
              </a:rPr>
              <a:t>What information in each source is use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Carry your writer’s journal everywhere you go.  As you get ideas, write them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Use the student publishing website and Ruth Spiro as your expe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merican Typewriter"/>
              </a:rPr>
              <a:t>Ask questions.  Bounce your ideas off of your family and friend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5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#5 Synthesis</a:t>
            </a:r>
            <a:br>
              <a:rPr sz="4400"/>
            </a:br>
            <a:r>
              <a:rPr b="0" lang="en-US" sz="2800" spc="-1" strike="noStrike">
                <a:solidFill>
                  <a:srgbClr val="ff0000"/>
                </a:solidFill>
                <a:latin typeface="American Typewriter"/>
              </a:rPr>
              <a:t>How can I organize all the information? How can I present the resul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Read through your journal idea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Cross off any that don’t excite you, and then put a star by your top 3 cho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Review Mrs. Spiro’s recipe.  Which of your top 3 ideas could be used to write a story that includes all of the required ingredi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Choose your idea and log in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    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American Typewriter"/>
                <a:hlinkClick r:id="rId1"/>
              </a:rPr>
              <a:t>www.studentpublishing.com</a:t>
            </a: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 to begin your story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Consider how you will do the pictures.  (Scan h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     </a:t>
            </a: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drawn images?  Draw online?  Upload digital pho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5634000"/>
            <a:ext cx="7772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Once you have finished writing and illustra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   </a:t>
            </a: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your book, it’s time to edit!  </a:t>
            </a:r>
            <a:r>
              <a:rPr b="0" lang="en-US" sz="2400" spc="-1" strike="noStrike">
                <a:solidFill>
                  <a:srgbClr val="ff0000"/>
                </a:solidFill>
                <a:latin typeface="American Typewriter"/>
              </a:rPr>
              <a:t>STOP!</a:t>
            </a:r>
            <a:r>
              <a:rPr b="0" lang="en-US" sz="1800" spc="-1" strike="noStrike">
                <a:solidFill>
                  <a:srgbClr val="ff0000"/>
                </a:solidFill>
                <a:latin typeface="American Typewriter"/>
              </a:rPr>
              <a:t>(See Mrs. Geid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Submit your final copy no later than March 26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5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#6 Evaluation</a:t>
            </a:r>
            <a:br>
              <a:rPr sz="4400"/>
            </a:br>
            <a:r>
              <a:rPr b="0" lang="en-US" sz="2800" spc="-1" strike="noStrike">
                <a:solidFill>
                  <a:srgbClr val="ff0000"/>
                </a:solidFill>
                <a:latin typeface="American Typewriter"/>
              </a:rPr>
              <a:t>Is the task completed?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merican Typewriter"/>
              </a:rPr>
              <a:t>How can I do things b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b200"/>
                </a:solidFill>
                <a:latin typeface="American Typewriter"/>
              </a:rPr>
              <a:t>Write a blog post reflecting on your student publishing experience.  Include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Describe the project.  Provide the title of your book and a short summary of what it was ab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Were you able to follow the directions and submit your story to be publish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Describe how you felt about the editing process and about getting constructive criticism from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What did you learn about the process of writing a bo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5524560"/>
            <a:ext cx="67975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Are you happy with the final result? 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What would you do differently if you ha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   </a:t>
            </a:r>
            <a:r>
              <a:rPr b="0" lang="en-US" sz="2400" spc="-1" strike="noStrike">
                <a:solidFill>
                  <a:srgbClr val="703dff"/>
                </a:solidFill>
                <a:latin typeface="American Typewriter"/>
              </a:rPr>
              <a:t>the opportunity to do this ag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23:45:01Z</dcterms:created>
  <dc:creator>Avoca West School</dc:creator>
  <dc:description/>
  <dc:language>en-US</dc:language>
  <cp:lastModifiedBy>Avoca West School</cp:lastModifiedBy>
  <dcterms:modified xsi:type="dcterms:W3CDTF">2010-02-18T01:45:32Z</dcterms:modified>
  <cp:revision>1</cp:revision>
  <dc:subject/>
  <dc:title>                      Avoca West        5th Grade Student Publishing Project!</dc:title>
</cp:coreProperties>
</file>